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8560" y="740880"/>
            <a:ext cx="4922640" cy="369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05200" y="93596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98E8-D7FF-48A5-9196-1B1409B3896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CCFC-C2FE-434B-A14C-A5E575C732C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LT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53A4-8389-407D-9B4A-45E332F4A10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LT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9CDF-4EDF-46C6-9E5E-B41921E91C1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54A8-D9CB-435C-A1FC-58A87E96853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D15-3ADF-483C-8381-FA612D40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649-7E4B-4805-AAF2-EC207DD3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C4A2-D019-4111-AB1A-21DBCD46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D15-E2F1-486D-96E8-0CB88494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98D0-8C74-47DA-B143-1C9F522D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FB45-0FC5-4FFA-939D-6438A5C6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60BD-10C7-4AC2-AC48-3BD02D97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3A05-4B60-4601-A95B-C82F206C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0011-7EE5-4B5E-9158-72F9884A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092B-358F-4B6F-9A62-B80FB336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1997-243C-4806-B282-78AFE03B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25B-4555-4EDA-A4FB-90E3E07F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D0DE-FBF3-45E9-9215-2C7B127B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15A4-66A9-420C-9B8F-AC700714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B138-66F8-4EBF-94D1-5A10E6CD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60C8-A077-4AC0-976B-C5EB3A1D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0C4C-8495-4094-A001-2249D73B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382-D996-40E8-A55B-F24BDD63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1A9-89BE-41F2-B9E4-0D8C248C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654-21BA-4DE3-A956-10D521B8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690-A6A0-4156-AB0B-1BB468C2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F1D-DB73-4431-A442-F144B6CE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F2A-F92B-41F7-AD4D-B85B73C6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7AA-A942-4182-AF41-5E6BE3B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4620-29D9-4C36-9F5D-79958B5AF1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icture 17"/>
          <p:cNvSpPr/>
          <p:nvPr/>
        </p:nvSpPr>
        <p:spPr>
          <a:xfrm>
            <a:off x="3957480" y="258840"/>
            <a:ext cx="1436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E6D6-CDE6-4A4A-A055-87C8375485A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909360"/>
            <a:ext cx="91440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2800" spc="-1" strike="noStrike">
                <a:solidFill>
                  <a:srgbClr val="ffd624"/>
                </a:solidFill>
                <a:latin typeface="Arial"/>
                <a:ea typeface="Arial"/>
              </a:rPr>
              <a:t>G20 Quality Infrastructure Investment Principles </a:t>
            </a:r>
            <a:br>
              <a:rPr sz="2800"/>
            </a:br>
            <a:r>
              <a:rPr b="1" lang="fr-BE" sz="2800" spc="-1" strike="noStrike">
                <a:solidFill>
                  <a:srgbClr val="ffd624"/>
                </a:solidFill>
                <a:latin typeface="Arial"/>
                <a:ea typeface="Arial"/>
              </a:rPr>
              <a:t>- </a:t>
            </a:r>
            <a:r>
              <a:rPr b="1" i="1" lang="fr-BE" sz="2800" spc="-1" strike="noStrike">
                <a:solidFill>
                  <a:srgbClr val="ffd624"/>
                </a:solidFill>
                <a:latin typeface="Arial"/>
                <a:ea typeface="Arial"/>
              </a:rPr>
              <a:t>Moving to Practise in Implementation</a:t>
            </a:r>
            <a:r>
              <a:rPr b="1" lang="fr-BE" sz="2800" spc="-1" strike="noStrike">
                <a:solidFill>
                  <a:srgbClr val="ffd624"/>
                </a:solidFill>
                <a:latin typeface="Arial"/>
                <a:ea typeface="Arial"/>
              </a:rPr>
              <a:t> -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169" descr="avionsurvol"/>
          <p:cNvPicPr/>
          <p:nvPr/>
        </p:nvPicPr>
        <p:blipFill>
          <a:blip r:embed="rId1"/>
          <a:srcRect l="9843" t="14763" r="9843" b="14763"/>
          <a:stretch/>
        </p:blipFill>
        <p:spPr>
          <a:xfrm>
            <a:off x="5219640" y="3484440"/>
            <a:ext cx="1440000" cy="1241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103640" y="6630840"/>
            <a:ext cx="93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" spc="-1" strike="noStrike">
                <a:solidFill>
                  <a:srgbClr val="ffff00"/>
                </a:solidFill>
                <a:latin typeface="Arial"/>
                <a:ea typeface="Arial"/>
              </a:rPr>
              <a:t>DEVCO C/6 </a:t>
            </a:r>
            <a:br>
              <a:rPr sz="600"/>
            </a:br>
            <a:endParaRPr b="0" lang="en-US" sz="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06360" y="4797360"/>
            <a:ext cx="8531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Paolo Ciccarelli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Head of Uni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DEVCO C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Cities, Local Authorities,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Digitalis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&amp; Infrastructur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Brussels, 05 Dec 2019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2"/>
          <a:stretch/>
        </p:blipFill>
        <p:spPr>
          <a:xfrm>
            <a:off x="3470400" y="3840120"/>
            <a:ext cx="1930320" cy="126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3"/>
          <a:stretch/>
        </p:blipFill>
        <p:spPr>
          <a:xfrm>
            <a:off x="1839960" y="3371760"/>
            <a:ext cx="1724040" cy="114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4"/>
          <a:stretch/>
        </p:blipFill>
        <p:spPr>
          <a:xfrm>
            <a:off x="1085760" y="4183200"/>
            <a:ext cx="208764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5"/>
          <a:stretch/>
        </p:blipFill>
        <p:spPr>
          <a:xfrm>
            <a:off x="4368960" y="4713120"/>
            <a:ext cx="1836720" cy="122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6"/>
          <a:stretch/>
        </p:blipFill>
        <p:spPr>
          <a:xfrm>
            <a:off x="3135240" y="5214960"/>
            <a:ext cx="14367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103640" y="6630840"/>
            <a:ext cx="93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" spc="-1" strike="noStrike">
                <a:solidFill>
                  <a:srgbClr val="ffff00"/>
                </a:solidFill>
                <a:latin typeface="Arial"/>
                <a:ea typeface="Arial"/>
              </a:rPr>
              <a:t>DEVCO C/6 </a:t>
            </a:r>
            <a:br>
              <a:rPr sz="600"/>
            </a:br>
            <a:endParaRPr b="0" lang="en-US" sz="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395280" y="33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c00"/>
                </a:solidFill>
                <a:latin typeface="Verdana"/>
                <a:ea typeface="Arial"/>
              </a:rPr>
              <a:t>Appetiser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971640" y="1260360"/>
            <a:ext cx="7561080" cy="280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Verdana"/>
                <a:ea typeface="Arial"/>
              </a:rPr>
              <a:t>The Situation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  <a:ea typeface="Arial"/>
              </a:rPr>
              <a:t>« Africa needs USD 130bn for Infrastructure Development annually </a:t>
            </a:r>
            <a:r>
              <a:rPr b="0" lang="fr-BE" sz="1600" spc="-1" strike="noStrike">
                <a:solidFill>
                  <a:srgbClr val="ffffff"/>
                </a:solidFill>
                <a:latin typeface="Verdana"/>
                <a:ea typeface="Arial"/>
              </a:rPr>
              <a:t>(AFDB - African Economic Outlook Report) - </a:t>
            </a:r>
            <a:r>
              <a:rPr b="0" i="1" lang="fr-BE" sz="1600" spc="-1" strike="noStrike">
                <a:solidFill>
                  <a:srgbClr val="ffffff"/>
                </a:solidFill>
                <a:latin typeface="Verdana"/>
                <a:ea typeface="Arial"/>
              </a:rPr>
              <a:t>massive quantity </a:t>
            </a:r>
            <a:r>
              <a:rPr b="0" lang="fr-BE" sz="1600" spc="-1" strike="noStrike">
                <a:solidFill>
                  <a:srgbClr val="ffffff"/>
                </a:solidFill>
                <a:latin typeface="Verdana"/>
                <a:ea typeface="Arial"/>
              </a:rPr>
              <a:t>»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  <a:ea typeface="Arial"/>
              </a:rPr>
              <a:t>«  Agenda 2030/SDGs </a:t>
            </a:r>
            <a:r>
              <a:rPr b="0" lang="fr-BE" sz="1600" spc="-1" strike="noStrike">
                <a:solidFill>
                  <a:srgbClr val="ffffff"/>
                </a:solidFill>
                <a:latin typeface="Verdana"/>
                <a:ea typeface="Arial"/>
              </a:rPr>
              <a:t>calls for ‘…</a:t>
            </a:r>
            <a:r>
              <a:rPr b="0" lang="fr-BE" sz="1600" spc="-1" strike="noStrike">
                <a:solidFill>
                  <a:srgbClr val="ffcc00"/>
                </a:solidFill>
                <a:latin typeface="Verdana"/>
                <a:ea typeface="Arial"/>
              </a:rPr>
              <a:t> </a:t>
            </a:r>
            <a:r>
              <a:rPr b="1" lang="fr-BE" sz="1600" spc="-1" strike="noStrike">
                <a:solidFill>
                  <a:srgbClr val="ffffff"/>
                </a:solidFill>
                <a:latin typeface="Verdana"/>
                <a:ea typeface="Arial"/>
              </a:rPr>
              <a:t>quality,</a:t>
            </a:r>
            <a:r>
              <a:rPr b="0" lang="fr-BE" sz="1600" spc="-1" strike="noStrike">
                <a:solidFill>
                  <a:srgbClr val="ffffff"/>
                </a:solidFill>
                <a:latin typeface="Verdana"/>
                <a:ea typeface="Arial"/>
              </a:rPr>
              <a:t> reliable, sustainable and resilient infrastructure accross all domains (energy,water, transport, digitalisation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  <a:ea typeface="Arial"/>
              </a:rPr>
              <a:t>« Quality Infrastructure Invstment Principels adopted at G20 level: -&gt; Moving to practise becomes ess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5724360" y="3500280"/>
            <a:ext cx="1832040" cy="430200"/>
            <a:chOff x="5724360" y="3500280"/>
            <a:chExt cx="1832040" cy="430200"/>
          </a:xfrm>
        </p:grpSpPr>
        <p:pic>
          <p:nvPicPr>
            <p:cNvPr id="108" name="Picture 13" descr=""/>
            <p:cNvPicPr/>
            <p:nvPr/>
          </p:nvPicPr>
          <p:blipFill>
            <a:blip r:embed="rId1"/>
            <a:stretch/>
          </p:blipFill>
          <p:spPr>
            <a:xfrm>
              <a:off x="6675480" y="3500280"/>
              <a:ext cx="41580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0" descr=""/>
            <p:cNvPicPr/>
            <p:nvPr/>
          </p:nvPicPr>
          <p:blipFill>
            <a:blip r:embed="rId2"/>
            <a:stretch/>
          </p:blipFill>
          <p:spPr>
            <a:xfrm>
              <a:off x="7148520" y="3500280"/>
              <a:ext cx="4078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9" descr=""/>
            <p:cNvPicPr/>
            <p:nvPr/>
          </p:nvPicPr>
          <p:blipFill>
            <a:blip r:embed="rId3"/>
            <a:stretch/>
          </p:blipFill>
          <p:spPr>
            <a:xfrm>
              <a:off x="5724360" y="3500280"/>
              <a:ext cx="39348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1" descr=""/>
            <p:cNvPicPr/>
            <p:nvPr/>
          </p:nvPicPr>
          <p:blipFill>
            <a:blip r:embed="rId4"/>
            <a:stretch/>
          </p:blipFill>
          <p:spPr>
            <a:xfrm>
              <a:off x="6189480" y="3500280"/>
              <a:ext cx="407880" cy="43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7" descr=""/>
          <p:cNvPicPr/>
          <p:nvPr/>
        </p:nvPicPr>
        <p:blipFill>
          <a:blip r:embed="rId5"/>
          <a:srcRect l="0" t="27643" r="0" b="0"/>
          <a:stretch/>
        </p:blipFill>
        <p:spPr>
          <a:xfrm>
            <a:off x="7885080" y="1557360"/>
            <a:ext cx="447840" cy="484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3"/>
          <p:cNvSpPr/>
          <p:nvPr/>
        </p:nvSpPr>
        <p:spPr>
          <a:xfrm>
            <a:off x="971640" y="5057640"/>
            <a:ext cx="7561080" cy="1310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00"/>
                </a:solidFill>
                <a:latin typeface="Verdana"/>
                <a:ea typeface="Arial"/>
              </a:rPr>
              <a:t>Question for debate and information sharing: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00"/>
                </a:solidFill>
                <a:latin typeface="Verdana"/>
                <a:ea typeface="Arial"/>
              </a:rPr>
              <a:t>-&gt; How will Financing Institutions respond to the principles when proposing project under teh EIP blending context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Down Arrow 2"/>
          <p:cNvSpPr/>
          <p:nvPr/>
        </p:nvSpPr>
        <p:spPr>
          <a:xfrm>
            <a:off x="4356000" y="4592520"/>
            <a:ext cx="50328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103640" y="6630840"/>
            <a:ext cx="93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" spc="-1" strike="noStrike">
                <a:solidFill>
                  <a:srgbClr val="ffff00"/>
                </a:solidFill>
                <a:latin typeface="Arial"/>
                <a:ea typeface="Arial"/>
              </a:rPr>
              <a:t>DEVCO C/6</a:t>
            </a:r>
            <a:endParaRPr b="0" lang="en-US" sz="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24000" y="8568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cc00"/>
                </a:solidFill>
                <a:latin typeface="Verdana"/>
                <a:ea typeface="Arial"/>
              </a:rPr>
              <a:t>Guidance for Session Debate: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5580000"/>
            <a:ext cx="727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38040" y="1517760"/>
            <a:ext cx="8467920" cy="4405320"/>
          </a:xfrm>
          <a:prstGeom prst="rect">
            <a:avLst/>
          </a:prstGeom>
          <a:ln w="0">
            <a:noFill/>
          </a:ln>
        </p:spPr>
      </p:pic>
      <p:sp>
        <p:nvSpPr>
          <p:cNvPr id="119" name="Oval 3"/>
          <p:cNvSpPr/>
          <p:nvPr/>
        </p:nvSpPr>
        <p:spPr>
          <a:xfrm>
            <a:off x="2556000" y="3141720"/>
            <a:ext cx="1152360" cy="23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2843280" y="2863800"/>
            <a:ext cx="1512720" cy="295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2843280" y="3378240"/>
            <a:ext cx="2233440" cy="27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3200400" y="3611520"/>
            <a:ext cx="2635200" cy="355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5508720" y="2608200"/>
            <a:ext cx="1655640" cy="293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Oval 15"/>
          <p:cNvSpPr/>
          <p:nvPr/>
        </p:nvSpPr>
        <p:spPr>
          <a:xfrm>
            <a:off x="3200400" y="2114640"/>
            <a:ext cx="1655640" cy="295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203640" y="1598760"/>
            <a:ext cx="2555640" cy="163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9" descr="avionsurvol"/>
          <p:cNvPicPr/>
          <p:nvPr/>
        </p:nvPicPr>
        <p:blipFill>
          <a:blip r:embed="rId2"/>
          <a:srcRect l="9843" t="14763" r="9843" b="14763"/>
          <a:stretch/>
        </p:blipFill>
        <p:spPr>
          <a:xfrm>
            <a:off x="3940200" y="3081240"/>
            <a:ext cx="1601640" cy="138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3"/>
          <a:stretch/>
        </p:blipFill>
        <p:spPr>
          <a:xfrm>
            <a:off x="4640400" y="3403440"/>
            <a:ext cx="1930320" cy="1268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4"/>
          <a:stretch/>
        </p:blipFill>
        <p:spPr>
          <a:xfrm>
            <a:off x="1728720" y="2255760"/>
            <a:ext cx="1724040" cy="114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5"/>
          <a:stretch/>
        </p:blipFill>
        <p:spPr>
          <a:xfrm>
            <a:off x="2160720" y="3201840"/>
            <a:ext cx="2087280" cy="1387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6"/>
          <a:stretch/>
        </p:blipFill>
        <p:spPr>
          <a:xfrm>
            <a:off x="4952880" y="2247840"/>
            <a:ext cx="1836720" cy="1222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7"/>
          <a:stretch/>
        </p:blipFill>
        <p:spPr>
          <a:xfrm>
            <a:off x="3203640" y="3021120"/>
            <a:ext cx="1436760" cy="960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4869000"/>
            <a:ext cx="7777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Thank you for your attention!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42:10Z</dcterms:created>
  <dc:creator>WALLEF Lionel (DEVCO)</dc:creator>
  <dc:description/>
  <cp:keywords>PEFA Workshop-Brussels</cp:keywords>
  <dc:language>en-US</dc:language>
  <cp:lastModifiedBy>KETTNER Juergen (DEVCO)</cp:lastModifiedBy>
  <cp:lastPrinted>2016-02-17T17:25:58Z</cp:lastPrinted>
  <dcterms:modified xsi:type="dcterms:W3CDTF">2019-11-26T10:21:13Z</dcterms:modified>
  <cp:revision>394</cp:revision>
  <dc:subject/>
  <dc:title>ESA-IO High Level Forum  11tRegional programming</dc:title>
</cp:coreProperties>
</file>